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заголовок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4"/>
          </p:nvPr>
        </p:nvSpPr>
        <p:spPr>
          <a:xfrm>
            <a:off x="-360" y="10156320"/>
            <a:ext cx="32749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5"/>
          </p:nvPr>
        </p:nvSpPr>
        <p:spPr>
          <a:xfrm>
            <a:off x="4277880" y="10156320"/>
            <a:ext cx="32749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95E8B-7E66-491D-820C-876603948F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3600" cy="126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заголовок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117DF-0BA4-4F6E-9E3D-6ABD9F865A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Rectangle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заголовок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E192F-535F-4DF4-AF12-5700ABC3FC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8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заголовок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8F399-4D98-470B-B960-10DAE287E4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Rectangle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2822A-3609-47A3-A12E-E70D82C5EC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38920" cy="4010040"/>
          </a:xfrm>
          <a:prstGeom prst="rect">
            <a:avLst/>
          </a:prstGeom>
          <a:ln w="0">
            <a:noFill/>
          </a:ln>
        </p:spPr>
      </p:sp>
      <p:sp>
        <p:nvSpPr>
          <p:cNvPr id="34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заголовок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43C05-84CB-4E16-80B0-3F5D2ADD94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Rectangle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6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заголовок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943EA-6305-4D58-A5D4-0DBA8E2826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Rectangle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заголовок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6B8DF-9B2E-40F6-B2AE-7D9419A489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Rectangle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заголовок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A0772-85AA-41A2-9DFC-5D91C88AFB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6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6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заголовок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2EF8E-3D3F-46E4-890C-290B93FA55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Rectangle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заголовок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E1AAA-3C04-4922-9134-C8FF198159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заголовок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841D6-7D39-4670-98B8-70750281FB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заголовок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3D67C-34F3-45C6-9E58-15EE64607C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32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заголовок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37D43-A9B7-488C-918D-E82D09B844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заголовок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90CC1-B469-4887-AA41-4AD74BB94A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2425C-953E-4924-8884-F9F0099A46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848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4BDFB-16C9-4A5B-B599-07E8E530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DC927-FAC6-4063-9841-54D88640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1B005-A366-4747-948C-26D7AABA94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3BB3A-C939-426A-82F8-0B794DEC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64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7848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64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748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776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51D07-2E12-4868-B0F4-977624A5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064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7848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064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748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1776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0092B-372E-49AF-B01A-F89DCDA3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064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7848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064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748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1776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08341-CDBB-460F-92D8-69D41DBB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064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7848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064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ACEB0-953B-4F42-9790-3DB6D0C0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748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1776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064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0DB40-9D5E-4B4E-98DF-0F1EB995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7848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064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748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1776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4E7E3-1288-45A4-BE4A-1369F8A8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4835B-DE4C-46EE-8FD5-045BE8E8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986305-A88A-43CD-AC37-A3F0D13F500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685800" y="2130480"/>
            <a:ext cx="77724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Единый государственный экзамен по русскому языку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19 го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9171000" cy="66690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312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31760" y="304920"/>
            <a:ext cx="90122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131760" y="152280"/>
            <a:ext cx="90122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131760" y="304920"/>
            <a:ext cx="90122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08000" y="792000"/>
            <a:ext cx="90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7. Напишите сочинение по прочитанному тексту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улируйте одну из проблем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вленны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ом текста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комментируйте сформулированную проблему. Включите в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ентарий два примера-иллюстрации из прочитанного текста, которые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Вашему мнению, важны для понимания проблемы исходного текст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збегайте чрезмерного цитирования). Поясните значение каждого примера и укажите смысловую связь между ним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улируйте позицию автора (рассказчика). Выразите свое отношение к позиции автора по проблеме исходного текста (согласие или несогласие) и обоснуйте его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ём сочинения – не менее 150 слов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, написанная без опоры на прочитанный текст (не по данному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ксту), не оценивается. Если сочинение представляет собой пересказанный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полностью переписанный исходный текст без каких бы то ни было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ентариев, то такая работа оценивается 0 баллов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чинение пишите аккуратно, разборчивым почерком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ритерии проверки и оценивания сочинения (содержание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85800" y="1981080"/>
          <a:ext cx="7780320" cy="4772160"/>
        </p:xfrm>
        <a:graphic>
          <a:graphicData uri="http://schemas.openxmlformats.org/drawingml/2006/table">
            <a:tbl>
              <a:tblPr/>
              <a:tblGrid>
                <a:gridCol w="861840"/>
                <a:gridCol w="5624640"/>
                <a:gridCol w="1293840"/>
              </a:tblGrid>
              <a:tr h="669960"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ка проблем исходного текст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-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ентарий к сформулированной проблеме исходного текс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-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ажение позиции автора исходного текст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-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4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гументация экзаменуемым собственного мнения по проблем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-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247680" y="189000"/>
            <a:ext cx="84484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214200" y="50004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Типы аргументов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395280" y="1484280"/>
            <a:ext cx="8358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Чаще всего используются следующие аргументы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i="1" lang="ru-RU" sz="2800" spc="-1" strike="noStrike">
                <a:solidFill>
                  <a:srgbClr val="002776"/>
                </a:solidFill>
                <a:latin typeface="Constantia"/>
              </a:rPr>
              <a:t>Факты и событи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2776"/>
                </a:solidFill>
                <a:latin typeface="Constantia"/>
              </a:rPr>
              <a:t>    </a:t>
            </a:r>
            <a:r>
              <a:rPr b="0" i="1" lang="ru-RU" sz="2800" spc="-1" strike="noStrike">
                <a:solidFill>
                  <a:srgbClr val="002776"/>
                </a:solidFill>
                <a:latin typeface="Constantia"/>
              </a:rPr>
              <a:t>Ссылки на авторитетных людей, цитаты из    их трудов и произведений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2776"/>
                </a:solidFill>
                <a:latin typeface="Constantia"/>
              </a:rPr>
              <a:t>     </a:t>
            </a:r>
            <a:r>
              <a:rPr b="0" i="1" lang="ru-RU" sz="2800" spc="-1" strike="noStrike">
                <a:solidFill>
                  <a:srgbClr val="002776"/>
                </a:solidFill>
                <a:latin typeface="Constantia"/>
              </a:rPr>
              <a:t>Пословицы и поговорк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2776"/>
                </a:solidFill>
                <a:latin typeface="Constantia"/>
              </a:rPr>
              <a:t>    </a:t>
            </a:r>
            <a:r>
              <a:rPr b="0" i="1" lang="ru-RU" sz="2800" spc="-1" strike="noStrike">
                <a:solidFill>
                  <a:srgbClr val="002776"/>
                </a:solidFill>
                <a:latin typeface="Constantia"/>
              </a:rPr>
              <a:t>Примеры из личной жизни и жизни окружающих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2776"/>
                </a:solidFill>
                <a:latin typeface="Constantia"/>
              </a:rPr>
              <a:t>     </a:t>
            </a:r>
            <a:r>
              <a:rPr b="0" i="1" lang="ru-RU" sz="2800" spc="-1" strike="noStrike">
                <a:solidFill>
                  <a:srgbClr val="002776"/>
                </a:solidFill>
                <a:latin typeface="Constantia"/>
              </a:rPr>
              <a:t>Примеры из художественной, публицистической, научной  литературы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"/>
          <p:cNvSpPr/>
          <p:nvPr/>
        </p:nvSpPr>
        <p:spPr>
          <a:xfrm>
            <a:off x="685800" y="609480"/>
            <a:ext cx="77724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ритерии проверки и оценивания сочинения (речевое оформление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84360" y="2205000"/>
          <a:ext cx="7778520" cy="2306520"/>
        </p:xfrm>
        <a:graphic>
          <a:graphicData uri="http://schemas.openxmlformats.org/drawingml/2006/table">
            <a:tbl>
              <a:tblPr/>
              <a:tblGrid>
                <a:gridCol w="933480"/>
                <a:gridCol w="5622840"/>
                <a:gridCol w="1222200"/>
              </a:tblGrid>
              <a:tr h="1636920"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5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ысловая цельность, речевая связность и последовательность излож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-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6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чность и выразительность реч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-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685800" y="609480"/>
            <a:ext cx="77724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ритерии проверки и оценивания сочинения (грамотность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85800" y="1981080"/>
          <a:ext cx="7780320" cy="5067360"/>
        </p:xfrm>
        <a:graphic>
          <a:graphicData uri="http://schemas.openxmlformats.org/drawingml/2006/table">
            <a:tbl>
              <a:tblPr/>
              <a:tblGrid>
                <a:gridCol w="1006560"/>
                <a:gridCol w="5335560"/>
                <a:gridCol w="1438200"/>
              </a:tblGrid>
              <a:tr h="1019160"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7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блюдение орфографических нор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9160"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8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блюдение пунктуационных нор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-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9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блюдение языковых нор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-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10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блюдение речевых нор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-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1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блюдение этических нор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-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9160"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1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блюдение фактологической точности в фоновом материал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-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685800" y="609480"/>
            <a:ext cx="77724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должительность ЕГЭ по русскому языку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должительность – 210 минут (3,5 часа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выполнение первой части (тест) рекомендуют отвести ориентировочно  100 минут, второй части  (сочинение) – 110 минут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457200" y="272880"/>
            <a:ext cx="822960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"/>
          <p:cNvSpPr/>
          <p:nvPr/>
        </p:nvSpPr>
        <p:spPr>
          <a:xfrm>
            <a:off x="685800" y="609480"/>
            <a:ext cx="77724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спределение заданий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частям экзаменационной работы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68580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55640" y="1989000"/>
          <a:ext cx="7851960" cy="490536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70320"/>
                <a:gridCol w="1571400"/>
                <a:gridCol w="1570320"/>
              </a:tblGrid>
              <a:tr h="1190880"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и рабо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 задан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. первичный бал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100-балльной шкал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зад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ь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кратким ответ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0"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ь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разверн. ответом (сочинение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4. В одном из приведенных ниже слов допущена ошибка в постановке ударения: НЕВЕРНО выделена буква, обозначающая ударный гласный звук. Выпишите это слово.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во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в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внИш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обр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15. Укажите все цифры, на месте которых пишется НН.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еобразие художестве(1)ого мира ра (2) их повестей Н.В. Гоголя связа(3)о с использованием фольклорных традиций: име(4)о в народных сказаниях, полуязыческих легендах и преданиях писатель нашел темы и сюжеты для своих произве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395280" y="404640"/>
            <a:ext cx="8229600" cy="10796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Задание 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овите соответствие между предложениями и допущенными в них грамматическими ошибками: к каждой позиции первого столбца подберите соответствующую позицию из второго столбца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457200" y="1557360"/>
            <a:ext cx="4043520" cy="38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) Получив начальное домашнее образование в Москве, Радищева зачислили в петербургский Пажеский корпус.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Б)Все, кто читал пушкинского «Бориса Годунова», помнит бродягу Варлаама.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)Одному из героев романа, ищущим смысл жизни, открывается путь к внутренней свободе.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Г)Благодаря повышения уровня сервиса в фирменных магазинах стало больше покупателей.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) Горячо любящим родную культуру предстаёт перед нами Д.С. Лихачёв в книге «Письмах о добром и прекрасном».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4533840" y="1557360"/>
            <a:ext cx="3854520" cy="38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ГРАММАТИЧЕСКИЕ ОШИБКИ 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еправильное употребление падежной формы существительного с предлогом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2) нарушение связи между подлежащим и сказуемым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3) нарушение в построении предложения с несогласованным приложением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4) ошибка в построении предложения с однородными членами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5) неправильное построение предложения с деепричастным оборотом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6) нарушение в построении предложения с причастным оборотом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7) неправильное построение предложения с косвенной речью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340000" y="5661000"/>
          <a:ext cx="3746520" cy="1095480"/>
        </p:xfrm>
        <a:graphic>
          <a:graphicData uri="http://schemas.openxmlformats.org/drawingml/2006/table">
            <a:tbl>
              <a:tblPr/>
              <a:tblGrid>
                <a:gridCol w="749160"/>
                <a:gridCol w="733680"/>
                <a:gridCol w="765000"/>
                <a:gridCol w="749160"/>
                <a:gridCol w="749520"/>
              </a:tblGrid>
              <a:tr h="538560">
                <a:tc>
                  <a:txBody>
                    <a:bodyPr lIns="90000" rIns="90000" tIns="23328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3328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3328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3328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3328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190080" bIns="46800" anchor="t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080" bIns="46800" anchor="t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080" bIns="46800" anchor="t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080" bIns="46800" anchor="t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080" bIns="46800" anchor="t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10.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Определите ряд, в котором в обоих словах в приставке пропущена одна и та же буква. Выпишите эти слова, вставив пропущенную букву.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2276280"/>
            <a:ext cx="7772400" cy="38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..встать, пр..ми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..брать, р..зосл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..кидать, и..пуг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..уныл, пр..р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..бросить, на..п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5. В одном из приведённых ниже предложений НЕВЕРНО употреблено выделенное  слово.  Исправьте  лексическую  ошибку,  подобрав к выделенному слову пароним. Запишите подобранное слово.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06000" indent="-30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 неясном,  рассеянном  свете  ночи  открылись  перед  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6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ЧЕСТВЕННЫЕ  и  прекрасные  перспективы  Петербурга:  Не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6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ережная, каналы, двор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ом и марганец являются КРАСОЧНЫМИ веществами, компонен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6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их красок, созданных на основе этих минера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ПЛОМАТИЧЕСКИЕ  отношения  между  Россией  и  США  бы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6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лены в 1807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ми ГУМАННЫМИ профессиями на земле являются те, от 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6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исят духовная жизнь и здоровье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пех внешней политики государства во многом зависит от опыта и таланта  ДИПЛОМ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6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_______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User</cp:lastModifiedBy>
  <dcterms:modified xsi:type="dcterms:W3CDTF">2019-04-25T10:31:10Z</dcterms:modified>
  <cp:revision>5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7</vt:r8>
  </property>
</Properties>
</file>