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116-87BE-46AE-AB27-E60E5FD0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A68E-6455-4CB9-8F73-CDEFA752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CDF-E854-4858-A23E-66498A94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98E-BFDF-47FA-8ED0-6F7D8993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B238-726B-43A4-A8CD-74A866F2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6132-2482-4A56-8213-04248156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B21D-25A8-4A8B-832E-FCBD5D90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9C91-6732-4C14-94A9-B5D36850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3767-5997-463E-B78C-EC8F1AC0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BCD7-4EF6-417C-9B0B-FEB98EA1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FDE7-8C11-4217-8A98-4F45AD7E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1AF-3218-4685-98D1-EF990974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890A-C8EF-4050-A249-73D4C2E4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D867-6B4B-4C95-BE3B-1B06B246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68F7-30F5-47DD-BEFD-3C7ADE3D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3CC5-EF1C-4D82-BE93-9675AAB3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7513-9DCB-4114-B181-AB45D4A4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6DB-11D6-451C-ABB3-64E02DDE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E7AA-58E2-4902-86B8-BBB0A53B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9107-163E-42B4-A4F4-D0D545BD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E295-EF30-4DC2-9B02-D856BEE7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BA44-9EEF-4AB6-A310-8183AB0D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E4BE-0601-4544-B7B7-6F1A1AA6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097C-B6F6-4946-91EB-92366EC5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AE9F-DF40-4B0E-85A4-98E213EFBB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FCBB-E20F-4F09-B89B-94D10F91B8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ge.edu.ru/" TargetMode="External"/><Relationship Id="rId2" Type="http://schemas.openxmlformats.org/officeDocument/2006/relationships/hyperlink" Target="http://www.ege.edu.ru/" TargetMode="External"/><Relationship Id="rId3" Type="http://schemas.openxmlformats.org/officeDocument/2006/relationships/hyperlink" Target="http://www.ege.edu.ru/" TargetMode="External"/><Relationship Id="rId4" Type="http://schemas.openxmlformats.org/officeDocument/2006/relationships/hyperlink" Target="http://www.ege.edu.ru/" TargetMode="External"/><Relationship Id="rId5" Type="http://schemas.openxmlformats.org/officeDocument/2006/relationships/hyperlink" Target="http://www.ege.edu.ru/" TargetMode="External"/><Relationship Id="rId6" Type="http://schemas.openxmlformats.org/officeDocument/2006/relationships/hyperlink" Target="http://www.ege.edu.ru/" TargetMode="External"/><Relationship Id="rId7" Type="http://schemas.openxmlformats.org/officeDocument/2006/relationships/hyperlink" Target="http://www.ege.edu.ru/" TargetMode="External"/><Relationship Id="rId8" Type="http://schemas.openxmlformats.org/officeDocument/2006/relationships/hyperlink" Target="http://www.fipi.ru/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63640" y="620280"/>
            <a:ext cx="6980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Родительское собрание 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«ЕГЭ по математике»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360" y="4221000"/>
            <a:ext cx="7920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Председатель региональной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предметной комиссии по математике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5.04.2019                                 Маркова Светлана Иосифовн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готовка к ЕГЭ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Исходить не из желания решить все задачи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А исходить из главной задачи – получить тот результат, который можно получи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пелляц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0560" y="1628640"/>
            <a:ext cx="835344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 результатам рассмотрения апелляции количество выставленных баллов может быть изменено как в сторону </a:t>
            </a:r>
            <a:r>
              <a:rPr b="1" lang="ru-RU" sz="2500" spc="-1" strike="noStrike">
                <a:solidFill>
                  <a:srgbClr val="3c13eb"/>
                </a:solidFill>
                <a:latin typeface="Verdana"/>
              </a:rPr>
              <a:t>увеличения, так и в сторону уменьшения</a:t>
            </a:r>
            <a:r>
              <a:rPr b="1" lang="ru-RU" sz="2500" spc="-1" strike="noStrike">
                <a:solidFill>
                  <a:srgbClr val="122424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кзаменационная работа </a:t>
            </a:r>
            <a:r>
              <a:rPr b="1" lang="ru-RU" sz="2500" spc="-1" strike="noStrike">
                <a:solidFill>
                  <a:srgbClr val="3c13eb"/>
                </a:solidFill>
                <a:latin typeface="Verdana"/>
              </a:rPr>
              <a:t>перепроверяется</a:t>
            </a:r>
            <a:r>
              <a:rPr b="1" lang="ru-RU" sz="25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3c13eb"/>
                </a:solidFill>
                <a:latin typeface="Verdana"/>
              </a:rPr>
              <a:t>полностью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а не отдельная ее часть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Черновики, использованные на экзамене, в качестве материалов апелляции </a:t>
            </a:r>
            <a:r>
              <a:rPr b="1" lang="ru-RU" sz="2500" spc="-1" strike="noStrike">
                <a:solidFill>
                  <a:srgbClr val="3c13eb"/>
                </a:solidFill>
                <a:latin typeface="Verdana"/>
              </a:rPr>
              <a:t>не рассматриваются</a:t>
            </a:r>
            <a:r>
              <a:rPr b="0" lang="ru-RU" sz="2500" spc="-1" strike="noStrike">
                <a:solidFill>
                  <a:srgbClr val="3c13eb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c13eb"/>
                </a:solidFill>
                <a:latin typeface="Verdana"/>
              </a:rPr>
              <a:t>После экзамена (после выхода с ППЭ) записать формулировки заданий с развернутым ответом!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формация по ЕГЭ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 официальном информационном портале ЕГЭ 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.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ege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.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edu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.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7"/>
              </a:rPr>
              <a:t>ru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;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 сайте Федерального государственного учреждения «Федеральный институт педагогических измерений» (ФИПИ)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8"/>
              </a:rPr>
              <a:t>www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fipi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ru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 сайте Федерального государственного учреждения «Федеральный центр тестирования» (ФЦТ) </a:t>
            </a:r>
            <a:r>
              <a:rPr b="1" lang="en-US" sz="2500" spc="-1" strike="noStrike" u="sng">
                <a:solidFill>
                  <a:srgbClr val="0000ff"/>
                </a:solidFill>
                <a:uFillTx/>
                <a:latin typeface="Verdana"/>
              </a:rPr>
              <a:t>www</a:t>
            </a:r>
            <a:r>
              <a:rPr b="1" lang="ru-RU" sz="2500" spc="-1" strike="noStrike" u="sng">
                <a:solidFill>
                  <a:srgbClr val="0000ff"/>
                </a:solidFill>
                <a:uFillTx/>
                <a:latin typeface="Verdana"/>
              </a:rPr>
              <a:t>.</a:t>
            </a:r>
            <a:r>
              <a:rPr b="1" lang="en-US" sz="2500" spc="-1" strike="noStrike" u="sng">
                <a:solidFill>
                  <a:srgbClr val="0000ff"/>
                </a:solidFill>
                <a:uFillTx/>
                <a:latin typeface="Verdana"/>
              </a:rPr>
              <a:t>rustest</a:t>
            </a:r>
            <a:r>
              <a:rPr b="1" lang="ru-RU" sz="2500" spc="-1" strike="noStrike" u="sng">
                <a:solidFill>
                  <a:srgbClr val="0000ff"/>
                </a:solidFill>
                <a:uFillTx/>
                <a:latin typeface="Verdana"/>
              </a:rPr>
              <a:t>.</a:t>
            </a:r>
            <a:r>
              <a:rPr b="1" lang="en-US" sz="2500" spc="-1" strike="noStrike" u="sng">
                <a:solidFill>
                  <a:srgbClr val="0000ff"/>
                </a:solidFill>
                <a:uFillTx/>
                <a:latin typeface="Verdana"/>
              </a:rPr>
              <a:t>ru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Что изменится в 2019 году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 ЕГЭ по математике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оличество задач не изменитс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тематика задач не изменитс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ложность задач не изменитс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зультаты ЕГЭ 2018 г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370160" y="1827360"/>
          <a:ext cx="7313400" cy="41148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овень экзамен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дали экзаме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учший результа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азовы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7 из 20 т.б.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,8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7-20 т.б.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фильны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1,7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7 из 100 б.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4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81-100 б.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Базовый уровен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70160" y="1827360"/>
          <a:ext cx="7313400" cy="4071960"/>
        </p:xfrm>
        <a:graphic>
          <a:graphicData uri="http://schemas.openxmlformats.org/drawingml/2006/table">
            <a:tbl>
              <a:tblPr/>
              <a:tblGrid>
                <a:gridCol w="3657600"/>
                <a:gridCol w="365580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ал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0 – 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– 1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– 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 – 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7005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Базовый уровен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айдите значение выражения (6,7 − 3,2)⋅ 2,4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. ЕГЭ по физике сдавали 25 выпускников школы, что составляет треть от общего числа выпускников. Сколько выпускников этой школы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не сдавали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экзамен по физике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8. Дачный участок имеет форму прямоугольника со сторонами 25 метров и 30 метров. Хозяин планирует обнести его забором и разделить таким же забором на две части, одна из которых имеет форму квадрата. Найдите суммарную длину забора в метрах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755640"/>
            <a:ext cx="864216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фильный уровен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 – 8 задания – базовый уровен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9 – 12 задания – повышенный уровень с кратким ответ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3 – 16 задания – повышенный уровень с развернутым ответ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7 - 19 задания – высокий уровень сложност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фильный уровен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 Поезд отправился из Санкт-Петербурга в 23 часа 50 минут (время московское) и прибыл в Москву в 7 часов 50 минут следующих суток. Сколько часов поезд находился в пути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1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167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ипичные ошибки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и решении задач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Неверное распределение времен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прочтение условия задач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запись решения задачи на черновике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подробная запись вычислен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Следствие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ычислительные ошибк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твет не на поставленный вопрос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5T11:34:00Z</dcterms:created>
  <dc:creator>User</dc:creator>
  <dc:description/>
  <dc:language>en-US</dc:language>
  <cp:lastModifiedBy>User</cp:lastModifiedBy>
  <dcterms:modified xsi:type="dcterms:W3CDTF">2019-04-25T09:16:06Z</dcterms:modified>
  <cp:revision>6</cp:revision>
  <dc:subject/>
  <dc:title>Родительское собрание «Подготовка к ЕГЭ  по математике»</dc:title>
</cp:coreProperties>
</file>