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4"/>
          </p:nvPr>
        </p:nvSpPr>
        <p:spPr>
          <a:xfrm>
            <a:off x="-36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5"/>
          </p:nvPr>
        </p:nvSpPr>
        <p:spPr>
          <a:xfrm>
            <a:off x="427788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C6CB4-A82C-4256-89CE-3CD4184FCE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3600" cy="126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37ACF-7290-479E-B8D6-18BC0A56A7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Rectangle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079AE-9CBD-4169-81F4-2E9D57E5B5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17542-436E-49AE-BE86-E423969FB1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Rectangle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9AFCE-7D48-4CDF-A9C1-FCE0275333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38920" cy="4010040"/>
          </a:xfrm>
          <a:prstGeom prst="rect">
            <a:avLst/>
          </a:prstGeom>
          <a:ln w="0">
            <a:noFill/>
          </a:ln>
        </p:spPr>
      </p:sp>
      <p:sp>
        <p:nvSpPr>
          <p:cNvPr id="34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A7F7F-FDD7-41DE-8731-A2097F382A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Rectangle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5AAC1-9164-4444-9E19-D0C3007997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Rectangle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620E9-99D0-4832-A913-91A9ECACFF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Rectangle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6560B-B68C-4DCC-A96B-87284FC9BD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6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341F9-AC71-4D34-8034-70A5CAE807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3C05B-1A95-4B5B-85CD-1C4570B623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E9940-8B93-4F17-B94F-A2A9B53D50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E3A00-54C7-4833-A123-D0809DFD53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32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409A8-2B96-448D-9FD8-99D6AD014E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заголовок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4278240" y="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дата/время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нижний колонтитул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85FD2-8385-4C97-88C3-065960742E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01C6-4F70-4F53-A69A-7E9A13979F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A63CD-F274-4049-900C-8B90A36E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4294-5B4C-4334-A720-B9B52CAF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C03AB-9E3A-4146-A67A-BD4A3B4FB9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A39A-7EE4-4398-9A64-5376D98B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776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11210-4741-42A6-8682-2C0FF983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748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1776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0F29-C2BD-49CE-BE1E-3E4C4E7A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748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1776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D9104-ECB3-4B6F-8BAD-12A89B01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F4AF5-3AD5-4822-AEBC-011504B8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748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1776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31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DD04B-8CC7-4092-B02F-347145AF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748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17760" y="160452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748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17760" y="3678480"/>
            <a:ext cx="264744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67848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D5E4-6471-4243-A1CB-22B96E64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4520"/>
            <a:ext cx="401256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8480"/>
            <a:ext cx="822312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D320E-F3FA-4AC1-8779-53034E7A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3C30DD-D0EA-456D-B192-F155FE92789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685800" y="2130480"/>
            <a:ext cx="77724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диный государственный экзамен по русскому языку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9 го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71000" cy="6669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31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31760" y="304920"/>
            <a:ext cx="90122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31760" y="152280"/>
            <a:ext cx="90122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31760" y="304920"/>
            <a:ext cx="90122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08000" y="792000"/>
            <a:ext cx="90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. Напишите сочинение по прочитанному текст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улируйте одну из проблем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вленны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ом текст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комментируйте сформулированную проблему. Включите в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ентарий два примера-иллюстрации из прочитанного текста, которые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Вашему мнению, важны для понимания проблемы исходного текст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збегайте чрезмерного цитирования). Поясните значение каждого примера и укажите смысловую связь между ним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улируйте позицию автора (рассказчика). Выразите свое отношение к позиции автора по проблеме исходного текста (согласие или несогласие) и обоснуйте его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ём сочинения – не менее 150 слов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, написанная без опоры на прочитанный текст (не по данному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у), не оценивается. Если сочинение представляет собой пересказанны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полностью переписанный исходный текст без каких бы то ни было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ентариев, то такая работа оценивается 0 баллов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чинение пишите аккуратно, разборчивым почерком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ритерии проверки и оценивания сочинения (содержание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85800" y="1981080"/>
          <a:ext cx="7780320" cy="4772160"/>
        </p:xfrm>
        <a:graphic>
          <a:graphicData uri="http://schemas.openxmlformats.org/drawingml/2006/table">
            <a:tbl>
              <a:tblPr/>
              <a:tblGrid>
                <a:gridCol w="861840"/>
                <a:gridCol w="5624640"/>
                <a:gridCol w="1293840"/>
              </a:tblGrid>
              <a:tr h="66996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ка проблем исходного текст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нтарий к сформулированной проблеме исходного текс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жение позиции автора исходного текст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гументация экзаменуемым собственного мнения по проблем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247680" y="189000"/>
            <a:ext cx="8448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214200" y="50004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Типы аргументов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395280" y="148428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Чаще всего используются следующие аргументы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i="1" lang="ru-RU" sz="2800" spc="-1" strike="noStrike">
                <a:solidFill>
                  <a:srgbClr val="002776"/>
                </a:solidFill>
                <a:latin typeface="Constantia"/>
              </a:rPr>
              <a:t>Факты и событ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2776"/>
                </a:solidFill>
                <a:latin typeface="Constantia"/>
              </a:rPr>
              <a:t>    </a:t>
            </a:r>
            <a:r>
              <a:rPr b="0" i="1" lang="ru-RU" sz="2800" spc="-1" strike="noStrike">
                <a:solidFill>
                  <a:srgbClr val="002776"/>
                </a:solidFill>
                <a:latin typeface="Constantia"/>
              </a:rPr>
              <a:t>Ссылки на авторитетных людей, цитаты из    их трудов и произведени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2776"/>
                </a:solidFill>
                <a:latin typeface="Constantia"/>
              </a:rPr>
              <a:t>     </a:t>
            </a:r>
            <a:r>
              <a:rPr b="0" i="1" lang="ru-RU" sz="2800" spc="-1" strike="noStrike">
                <a:solidFill>
                  <a:srgbClr val="002776"/>
                </a:solidFill>
                <a:latin typeface="Constantia"/>
              </a:rPr>
              <a:t>Пословицы и поговорк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2776"/>
                </a:solidFill>
                <a:latin typeface="Constantia"/>
              </a:rPr>
              <a:t>    </a:t>
            </a:r>
            <a:r>
              <a:rPr b="0" i="1" lang="ru-RU" sz="2800" spc="-1" strike="noStrike">
                <a:solidFill>
                  <a:srgbClr val="002776"/>
                </a:solidFill>
                <a:latin typeface="Constantia"/>
              </a:rPr>
              <a:t>Примеры из личной жизни и жизни окружающих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2776"/>
                </a:solidFill>
                <a:latin typeface="Constantia"/>
              </a:rPr>
              <a:t>     </a:t>
            </a:r>
            <a:r>
              <a:rPr b="0" i="1" lang="ru-RU" sz="2800" spc="-1" strike="noStrike">
                <a:solidFill>
                  <a:srgbClr val="002776"/>
                </a:solidFill>
                <a:latin typeface="Constantia"/>
              </a:rPr>
              <a:t>Примеры из художественной, публицистической, научной  литератур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685800" y="609480"/>
            <a:ext cx="77724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ритерии проверки и оценивания сочинения (речевое оформление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4360" y="2205000"/>
          <a:ext cx="7778520" cy="2306520"/>
        </p:xfrm>
        <a:graphic>
          <a:graphicData uri="http://schemas.openxmlformats.org/drawingml/2006/table">
            <a:tbl>
              <a:tblPr/>
              <a:tblGrid>
                <a:gridCol w="933480"/>
                <a:gridCol w="5622840"/>
                <a:gridCol w="1222200"/>
              </a:tblGrid>
              <a:tr h="163692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ысловая цельность, речевая связность и последовательность излож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6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чность и выразительность реч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685800" y="609480"/>
            <a:ext cx="77724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ритерии проверки и оценивания сочинения (грамотность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85800" y="1981080"/>
          <a:ext cx="7780320" cy="5067360"/>
        </p:xfrm>
        <a:graphic>
          <a:graphicData uri="http://schemas.openxmlformats.org/drawingml/2006/table">
            <a:tbl>
              <a:tblPr/>
              <a:tblGrid>
                <a:gridCol w="1006560"/>
                <a:gridCol w="5335560"/>
                <a:gridCol w="1438200"/>
              </a:tblGrid>
              <a:tr h="101916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7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людение орфографических нор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8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людение пунктуационных нор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9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людение языковых нор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10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людение речевых нор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1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людение этических нор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1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людение фактологической точности в фоновом материал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4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685800" y="609480"/>
            <a:ext cx="77724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должительность ЕГЭ по русскому языку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олжительность – 210 минут (3,5 часа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выполнение первой части (тест) рекомендуют отвести ориентировочно  100 минут, второй части  (сочинение) – 110 мину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457200" y="272880"/>
            <a:ext cx="822960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685800" y="609480"/>
            <a:ext cx="77724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спределение заданий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частям экзаменационной работы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6858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55640" y="1989000"/>
          <a:ext cx="7851960" cy="490536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70320"/>
                <a:gridCol w="1571400"/>
                <a:gridCol w="1570320"/>
              </a:tblGrid>
              <a:tr h="1190880"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и рабо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 задан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. первичный бал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100-балльной шкал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за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кратким ответ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0"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разверн. ответом (сочинение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419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4. В одном из приведенных ниже слов допущена ошибка в постановке ударения: НЕВЕРНО выделена буква, обозначающая ударный гласный звук. Выпишите это слово.</a:t>
            </a: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во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внИш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обр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15. Укажите все цифры, на месте которых пишется НН.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еобразие художестве(1)ого мира ра (2) их повестей Н.В. Гоголя связа(3)о с использованием фольклорных традиций: име(4)о в народных сказаниях, полуязыческих легендах и преданиях писатель нашел темы и сюжеты для своих произве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395280" y="404640"/>
            <a:ext cx="8229600" cy="107964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адание 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ите соответствие между предложениями и допущенными в них грамматическими ошибками: к каждой позиции первого столбца подберите соответствующую позицию из второго столбц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457200" y="1557360"/>
            <a:ext cx="4043520" cy="38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) Получив начальное домашнее образование в Москве, Радищева зачислили в петербургский Пажеский корпус.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)Все, кто читал пушкинского «Бориса Годунова», помнит бродягу Варлаама.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)Одному из героев романа, ищущим смысл жизни, открывается путь к внутренней свободе.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)Благодаря повышения уровня сервиса в фирменных магазинах стало больше покупателей.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) Горячо любящим родную культуру предстаёт перед нами Д.С. Лихачёв в книге «Письмах о добром и прекрасном».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533840" y="1557360"/>
            <a:ext cx="3854520" cy="38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РАММАТИЧЕСКИЕ ОШИБКИ 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правильное употребление падежной формы существительного с предлогом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) нарушение связи между подлежащим и сказуемым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) нарушение в построении предложения с несогласованным приложением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) ошибка в построении предложения с однородными членами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5) неправильное построение предложения с деепричастным оборотом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6) нарушение в построении предложения с причастным оборотом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7) неправильное построение предложения с косвенной речью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340000" y="5661000"/>
          <a:ext cx="3746520" cy="1095480"/>
        </p:xfrm>
        <a:graphic>
          <a:graphicData uri="http://schemas.openxmlformats.org/drawingml/2006/table">
            <a:tbl>
              <a:tblPr/>
              <a:tblGrid>
                <a:gridCol w="749160"/>
                <a:gridCol w="733680"/>
                <a:gridCol w="765000"/>
                <a:gridCol w="749160"/>
                <a:gridCol w="749520"/>
              </a:tblGrid>
              <a:tr h="538560">
                <a:tc>
                  <a:txBody>
                    <a:bodyPr lIns="90000" rIns="90000" tIns="23328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328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328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328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3328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19008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08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08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08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08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10. 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Определите ряд, в котором в обоих словах в приставке пропущена одна и та же буква. Выпишите эти слова, вставив пропущенную букву.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..встать, пр..ми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..брать, р..зос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..кидать, и..пуг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..уныл, пр..р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..бросить, на..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5. В одном из приведённых ниже предложений НЕВЕРНО употреблено выделенное  слово.  Исправьте  лексическую  ошибку,  подобрав к выделенному слову пароним. Запишите подобранное слово.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06000" indent="-30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 неясном,  рассеянном  свете  ночи  открылись  перед  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ЧЕСТВЕННЫЕ  и  прекрасные  перспективы  Петербурга:  Не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ережная, каналы, двор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ом и марганец являются КРАСОЧНЫМИ веществами, компоне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их красок, созданных на основе этих минера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ПЛОМАТИЧЕСКИЕ  отношения  между  Россией  и  США  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ы в 1807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ми ГУМАННЫМИ профессиями на земле являются те, от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исят духовная жизнь и здоровье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-306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пех внешней политики государства во многом зависит от опыта и таланта  ДИПЛОМ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6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ser</cp:lastModifiedBy>
  <dcterms:modified xsi:type="dcterms:W3CDTF">2019-04-25T10:31:10Z</dcterms:modified>
  <cp:revision>5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7</vt:r8>
  </property>
</Properties>
</file>