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9D6-13AF-4978-B7AE-5F607F87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4E6-CFF3-4FB8-9E2A-5F60343D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833-C707-40B4-A0F6-36AC0E48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702-DAC4-4327-A533-4BEAC110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A552-05E9-4237-94AD-94C69BEC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AD41-1D11-48B8-A4FC-87843B9E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4EC4-EC36-4956-A97C-66B529F5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194F-A670-4F1F-AF8A-FA7646A0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651F-87D5-4A0F-B285-69BF03E7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3028-860A-48F9-A340-64D8CBFC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D9D3-7027-46BD-96A7-C8679CBF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D80-1E31-45C5-A3B1-F00676E6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0CBE-5086-4B8D-8D81-7212A284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E732-D53C-4C53-BA02-ED9BD41B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21D3-B840-4A02-8810-154EA8BE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8969-CF2B-49D0-B980-84222A3E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D22F-E841-49DA-8B8D-23B73BCC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4E8-A91C-4A25-B9C0-B53B7AF5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6DB-836E-498F-87D9-63CB50A6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F89-D8E7-4D27-96D0-BC77C2FB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584-5A58-4257-9FFA-8D5EE916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35C-C892-499F-99E0-A0FDA38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1BA-7C0F-474F-9140-4A1D54B4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3AC-55FB-480B-BF88-3ECCA138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353A-E174-4F35-A5A0-9BFB829ACD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372B-4CC7-4CD2-AC2A-466CD93CE9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ge.edu.ru/" TargetMode="External"/><Relationship Id="rId2" Type="http://schemas.openxmlformats.org/officeDocument/2006/relationships/hyperlink" Target="http://www.ege.edu.ru/" TargetMode="External"/><Relationship Id="rId3" Type="http://schemas.openxmlformats.org/officeDocument/2006/relationships/hyperlink" Target="http://www.ege.edu.ru/" TargetMode="External"/><Relationship Id="rId4" Type="http://schemas.openxmlformats.org/officeDocument/2006/relationships/hyperlink" Target="http://www.ege.edu.ru/" TargetMode="External"/><Relationship Id="rId5" Type="http://schemas.openxmlformats.org/officeDocument/2006/relationships/hyperlink" Target="http://www.ege.edu.ru/" TargetMode="External"/><Relationship Id="rId6" Type="http://schemas.openxmlformats.org/officeDocument/2006/relationships/hyperlink" Target="http://www.ege.edu.ru/" TargetMode="External"/><Relationship Id="rId7" Type="http://schemas.openxmlformats.org/officeDocument/2006/relationships/hyperlink" Target="http://www.ege.edu.ru/" TargetMode="External"/><Relationship Id="rId8" Type="http://schemas.openxmlformats.org/officeDocument/2006/relationships/hyperlink" Target="http://www.fipi.ru/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63640" y="620280"/>
            <a:ext cx="6980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Родительское собрание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«ЕГЭ по математике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360" y="4221000"/>
            <a:ext cx="7920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редседатель региональной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предметной комиссии по математике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5.04.2019                                 Маркова Светлана Иосифовн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дготовка к ЕГЭ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сходить не из желания решить все задачи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А исходить из главной задачи – получить тот результат, который можно получи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пелля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0560" y="1628640"/>
            <a:ext cx="835344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 результатам рассмотрения апелляции количество выставленных баллов может быть изменено как в сторону </a:t>
            </a:r>
            <a:r>
              <a:rPr b="1" lang="ru-RU" sz="2500" spc="-1" strike="noStrike">
                <a:solidFill>
                  <a:srgbClr val="3c13eb"/>
                </a:solidFill>
                <a:latin typeface="Verdana"/>
              </a:rPr>
              <a:t>увеличения, так и в сторону уменьшения</a:t>
            </a:r>
            <a:r>
              <a:rPr b="1" lang="ru-RU" sz="2500" spc="-1" strike="noStrike">
                <a:solidFill>
                  <a:srgbClr val="122424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кзаменационная работа </a:t>
            </a:r>
            <a:r>
              <a:rPr b="1" lang="ru-RU" sz="2500" spc="-1" strike="noStrike">
                <a:solidFill>
                  <a:srgbClr val="3c13eb"/>
                </a:solidFill>
                <a:latin typeface="Verdana"/>
              </a:rPr>
              <a:t>перепроверяется</a:t>
            </a:r>
            <a:r>
              <a:rPr b="1" lang="ru-RU" sz="25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3c13eb"/>
                </a:solidFill>
                <a:latin typeface="Verdana"/>
              </a:rPr>
              <a:t>полностью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а не отдельная ее часть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ерновики, использованные на экзамене, в качестве материалов апелляции </a:t>
            </a:r>
            <a:r>
              <a:rPr b="1" lang="ru-RU" sz="2500" spc="-1" strike="noStrike">
                <a:solidFill>
                  <a:srgbClr val="3c13eb"/>
                </a:solidFill>
                <a:latin typeface="Verdana"/>
              </a:rPr>
              <a:t>не рассматриваются</a:t>
            </a:r>
            <a:r>
              <a:rPr b="0" lang="ru-RU" sz="2500" spc="-1" strike="noStrike">
                <a:solidFill>
                  <a:srgbClr val="3c13eb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c13eb"/>
                </a:solidFill>
                <a:latin typeface="Verdana"/>
              </a:rPr>
              <a:t>После экзамена (после выхода с ППЭ) записать формулировки заданий с развернутым ответом!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формация по ЕГЭ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официальном информационном портале ЕГЭ 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.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ege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.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edu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.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ru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сайте Федерального государственного учреждения «Федеральный институт педагогических измерений» (ФИПИ)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www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fipi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ru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сайте Федерального государственного учреждения «Федеральный центр тестирования» (ФЦТ) </a:t>
            </a:r>
            <a:r>
              <a:rPr b="1" lang="en-US" sz="2500" spc="-1" strike="noStrike" u="sng">
                <a:solidFill>
                  <a:srgbClr val="0000ff"/>
                </a:solidFill>
                <a:uFillTx/>
                <a:latin typeface="Verdana"/>
              </a:rPr>
              <a:t>www</a:t>
            </a:r>
            <a:r>
              <a:rPr b="1" lang="ru-RU" sz="2500" spc="-1" strike="noStrike" u="sng">
                <a:solidFill>
                  <a:srgbClr val="0000ff"/>
                </a:solidFill>
                <a:uFillTx/>
                <a:latin typeface="Verdana"/>
              </a:rPr>
              <a:t>.</a:t>
            </a:r>
            <a:r>
              <a:rPr b="1" lang="en-US" sz="2500" spc="-1" strike="noStrike" u="sng">
                <a:solidFill>
                  <a:srgbClr val="0000ff"/>
                </a:solidFill>
                <a:uFillTx/>
                <a:latin typeface="Verdana"/>
              </a:rPr>
              <a:t>rustest</a:t>
            </a:r>
            <a:r>
              <a:rPr b="1" lang="ru-RU" sz="2500" spc="-1" strike="noStrike" u="sng">
                <a:solidFill>
                  <a:srgbClr val="0000ff"/>
                </a:solidFill>
                <a:uFillTx/>
                <a:latin typeface="Verdana"/>
              </a:rPr>
              <a:t>.</a:t>
            </a:r>
            <a:r>
              <a:rPr b="1" lang="en-US" sz="2500" spc="-1" strike="noStrike" u="sng">
                <a:solidFill>
                  <a:srgbClr val="0000ff"/>
                </a:solidFill>
                <a:uFillTx/>
                <a:latin typeface="Verdana"/>
              </a:rPr>
              <a:t>ru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Что изменится в 2019 году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 ЕГЭ по математике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оличество задач не изменитс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ематика задач не изменитс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ложность задач не изменитс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зультаты ЕГЭ 2018 г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70160" y="1827360"/>
          <a:ext cx="7313400" cy="41148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вень экзамен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дали экзаме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учший результа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азов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7 из 20 т.б.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,8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7-20 т.б.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фильн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1,7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7 из 100 б.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4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81-100 б.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азовый уровен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70160" y="1827360"/>
          <a:ext cx="7313400" cy="407196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ал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0 – 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– 1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– 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 – 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005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азовый уровен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айдите значение выражения (6,7 − 3,2)⋅ 2,4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 ЕГЭ по физике сдавали 25 выпускников школы, что составляет треть от общего числа выпускников. Сколько выпускников этой школы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е сдавали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экзамен по физике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8. Дачный участок имеет форму прямоугольника со сторонами 25 метров и 30 метров. Хозяин планирует обнести его забором и разделить таким же забором на две части, одна из которых имеет форму квадрата. Найдите суммарную длину забора в метрах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755640"/>
            <a:ext cx="864216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фильный уровен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 – 8 задания – базовый уровен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9 – 12 задания – повышенный уровень с кратким ответ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3 – 16 задания – повышенный уровень с развернутым ответ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7 - 19 задания – высокий уровень сложност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фильный уровен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 Поезд отправился из Санкт-Петербурга в 23 часа 50 минут (время московское) и прибыл в Москву в 7 часов 50 минут следующих суток. Сколько часов поезд находился в пути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1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167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ипичные ошибки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и решении задач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Неверное распределение времен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прочтение условия задач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запись решения задачи на черновике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подробная запись вычислен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Следствие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ычислительные ошибк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твет не на поставленный вопрос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5T11:34:00Z</dcterms:created>
  <dc:creator>User</dc:creator>
  <dc:description/>
  <dc:language>en-US</dc:language>
  <cp:lastModifiedBy>User</cp:lastModifiedBy>
  <dcterms:modified xsi:type="dcterms:W3CDTF">2019-04-25T09:16:06Z</dcterms:modified>
  <cp:revision>6</cp:revision>
  <dc:subject/>
  <dc:title>Родительское собрание «Подготовка к ЕГЭ  по математике»</dc:title>
</cp:coreProperties>
</file>