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4978-D144-4982-9E36-AA627C0814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3AAC-5D75-49B1-A714-21E069EE6267}" type="slidenum"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FAE-3BAA-4A20-AEF6-C6A09936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2FF-1E8E-4DE6-9844-AB1C4B63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A52-A2E7-418D-A693-F9CF79FF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1CD-2F7A-4C20-8F1D-051B9C39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6312-5089-4068-90C4-94205721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515F-825E-4380-A7CF-C8700EFA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335C-7839-4B9A-8661-5E598F63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FD01-5AA0-4663-A5E1-1C4B62E8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D3E1-DBF7-4413-A9B0-534471F8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1CD7-AD82-4F3F-B98E-5D9F86E4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979E-8AAB-4DB8-81EB-A65BB91D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7C8-BDA8-4C27-B880-C4A3BD7A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304E-F64B-4372-8F9E-ED8D3E91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8DAA-8DEB-4423-BD62-76CEBC26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4DD0-9D3E-4AEB-8D07-8CB74D34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03F5-15A9-4154-84BF-CAD88494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74A8-D3D4-4E50-BE4F-EF542060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A8AE9-7F86-4683-8454-CF179F5E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CB0C1-4196-40A3-B56A-3138917A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2C1C7-476B-4083-9675-39A04992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F3938-176B-4CA4-89B9-13BC332C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94233-DF9F-4537-BCFC-B0C0F95A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8C7-76F1-447E-B6C5-80ABF555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199C0-AFD2-4C0D-9DB0-F6705D2B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A4226-DA70-4421-8037-6E4D6572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94257-F7B7-4203-9F41-CF6661C3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EF680-D37B-4407-A3B2-22CD2A1B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43ED2-EB69-4F53-A2A4-C63BF4B4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85CBF-BDF8-4638-B19D-E43CE423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5929C-91F3-4C86-B290-72FF7E02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3D9C9-4461-49D3-8374-539F17CC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D0B7A-B6A4-42BA-AC94-B073FA5E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6ECA4-9487-4677-AC91-874DB2AA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BFD-5A4E-4167-985B-4096A00D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392BE-0620-46B8-BD37-ABB1C209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8CCF-FA71-4B29-9333-9C9E55EA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8B402-B365-4B33-A325-D0EB7DDC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4070B-79F0-44B3-9F53-1A590A0D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4AA58-6A7A-4371-A8EF-12EDDAFA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F1906-E67D-494D-8401-EF9EE2A8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1270F-A8FB-4A99-ACD8-22EF9468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9015A-11CF-46CE-BE3B-FA432530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4AE07-220A-4769-9147-86689FCD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30A55-ADB3-4EB2-9EEF-5A2777E3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E3C-EDFE-4BEF-8817-0DEF0D39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78DEB-4A8F-42E6-B0F7-A9952CCA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30D3E-EE4F-4B0E-8572-78435D9A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11DBB-44BD-4A41-BB18-FE75CC4F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530A1-C959-4C87-BA4E-1A332DBD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E712D-F6A0-435A-B237-30BF3FEB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4CF39-8DA9-48B3-AE50-C65FFCC8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BDB58-6C52-4660-9C25-773D94C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5EFC8-9633-41FF-944E-182E8AB8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7FB64-45B0-4D87-9F89-EE4ECB75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23FEF-D737-489B-A332-8041778D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842-5614-478A-BC87-73D79013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6267F-43FC-4C77-A731-4839C1EE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3224AD-05C0-4B60-BF51-5AAF2985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CA512-3C01-4EEE-BD6A-7B68A898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CC8BF-E31D-4874-BFA3-7D8A6FDD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83F1B6-87AB-4679-81C9-C8DE4BFA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D2ABE-9BA3-4A93-A52A-B735BA76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21AA8-440E-44B4-B217-42E0C9A8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F0FFD-BBAD-41BA-BF30-F836C7EA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EEE3B-5769-4CB2-9FEE-75583C8E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8223B-801D-42E1-AEE2-3442733A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220-872E-452B-BD95-BE6057D2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721B8-0891-499C-B613-D10FB53E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D5CE7-9FD0-431A-85E4-7CBB9B01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FD63C2-293D-4B55-B497-665EDD6F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74B75-FAE3-4D32-A42C-6A914A5A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F7F3C-FE8F-408C-BFE1-C39EBBA5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7DE2F-B089-48AE-9971-1E801F60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436F3-DB09-41AA-92CD-31166464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5C933F-03AD-4C28-A48A-C3534227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461D3-9494-4B88-8BCC-95D42167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BC5E2-A0BF-418B-BD00-40A0C7FD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0AA-44FA-430C-8810-976A7F5D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337BE-E73B-40E4-82A4-5DF5703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F30CB-8B09-4F33-86F9-7898D4EF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B189B-848F-45E8-9501-27D3F211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C2D64-6951-4E00-BB91-B1E0E4C0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59959C-4A47-49C3-A011-177E0A0C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EBB-A32C-4CF0-ADE6-5BA632B6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D074-D527-42DA-B943-129DEF194F1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6670-95DA-4CD0-BEED-C9A05617E16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3113-B3E4-4E2F-884C-26B126A5BA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95A9-9DA9-476B-B6D2-8244714861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ADF5-C513-4457-93D8-15F4CBBB41D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EAB2-1C5A-4ED1-9D5E-F74299D60B3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EEC2-3715-4FEC-8376-3881FBFE65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190080" y="-360"/>
            <a:ext cx="617220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ВЕЛИКИЙ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682-1725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3276720" y="216000"/>
            <a:ext cx="475452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324000" y="19692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Чью сторону вы приняли бы в этой дискуссии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0" y="-171360"/>
          <a:ext cx="9137520" cy="8558280"/>
        </p:xfrm>
        <a:graphic>
          <a:graphicData uri="http://schemas.openxmlformats.org/drawingml/2006/table">
            <a:tbl>
              <a:tblPr/>
              <a:tblGrid>
                <a:gridCol w="4568760"/>
                <a:gridCol w="4568760"/>
              </a:tblGrid>
              <a:tr h="855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Сторон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«нынешняя Россия, то есть Россия европейская, дипломатическая, политическая, военная, Россия коммерческая, мануфактурная, Россия школьная есть произведение Петра Великого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(М.Н. Погоди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Кри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«при Петре началось то зло, которое есть зло и нашего времени… Из могучей земли, могучей более всего верою и внутреннею жизнью,… Петр захотел образовать могущество и славу земную, захотел, следовательно, оторвать Русь от родных источников ее жизни, захотел втолкнуть Россию на путь Запада, путь ложный и опасный. Петр подчинил Россию влиянию Запада…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(К.С. Аксак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971640" y="333360"/>
            <a:ext cx="73454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чины реформ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циально-экономическое, политическое и культурное отставание России от стран Западной Европы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лабление международного положения России. Угроза потери независимост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-541440" y="333360"/>
            <a:ext cx="1000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 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удо России» или «Чудовище»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324000" y="177336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 О П С – формул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позиция «Мы считаем, что…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обоснование «Потому, что…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П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пример «Например…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следствие «Поэтому…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324000" y="364500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И. Герцен о Петр 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 гений и палач»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s://ds04.infourok.ru/uploads/ex/1258/0000ae97-311a1dfd/1/hello_html_m478ddb4e.pn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337080"/>
          </a:xfrm>
          <a:prstGeom prst="rect">
            <a:avLst/>
          </a:prstGeom>
          <a:ln w="0">
            <a:noFill/>
          </a:ln>
        </p:spPr>
      </p:pic>
      <p:sp>
        <p:nvSpPr>
          <p:cNvPr id="370" name="TextBox 1"/>
          <p:cNvSpPr/>
          <p:nvPr/>
        </p:nvSpPr>
        <p:spPr>
          <a:xfrm>
            <a:off x="971640" y="119160"/>
            <a:ext cx="7056360" cy="4597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ВОРЦОВЫЕ ПЕРЕВОРО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https://cs3.livemaster.ru/zhurnalfoto/3/d/7/131218215807.jpg"/>
          <p:cNvPicPr/>
          <p:nvPr/>
        </p:nvPicPr>
        <p:blipFill>
          <a:blip r:embed="rId1"/>
          <a:stretch/>
        </p:blipFill>
        <p:spPr>
          <a:xfrm>
            <a:off x="3340080" y="6480"/>
            <a:ext cx="5438880" cy="68752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"/>
          <p:cNvSpPr/>
          <p:nvPr/>
        </p:nvSpPr>
        <p:spPr>
          <a:xfrm>
            <a:off x="395280" y="1413000"/>
            <a:ext cx="317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  <a:ea typeface="Arial"/>
              </a:rPr>
              <a:t>Екатерина </a:t>
            </a:r>
            <a:r>
              <a:rPr b="1" lang="en-US" sz="3200" spc="-1" strike="noStrike">
                <a:solidFill>
                  <a:srgbClr val="c00000"/>
                </a:solidFill>
                <a:latin typeface="Century Schoolbook"/>
                <a:ea typeface="Arial"/>
              </a:rPr>
              <a:t>II</a:t>
            </a:r>
            <a:r>
              <a:rPr b="1" lang="ru-RU" sz="32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  <a:ea typeface="Arial"/>
              </a:rPr>
              <a:t>Велика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(1762 - 1796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5:33:57Z</dcterms:created>
  <dc:creator>ксош№1</dc:creator>
  <dc:description/>
  <dc:language>en-US</dc:language>
  <cp:lastModifiedBy>Irina</cp:lastModifiedBy>
  <dcterms:modified xsi:type="dcterms:W3CDTF">2017-01-23T03:37:37Z</dcterms:modified>
  <cp:revision>137</cp:revision>
  <dc:subject/>
  <dc:title>Свобода и ответственность.</dc:title>
</cp:coreProperties>
</file>