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B339-B671-45B9-A42A-50533DDE9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04E3-F5A5-4DD7-8D23-ED1AE472BF0A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452-2AA8-42EB-BFB8-E8B85C6E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A02-1A3D-4E53-9FA1-488A89C4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E41-8971-4B76-8E09-EDAC0942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171-B9DF-4214-B19A-6F95DC79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92D5-6E64-45FE-AA47-31EFC013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9F9-823E-4E6E-8689-0DCD7B47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03F2-2631-405B-AF7C-A120BD1F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DEC-B3C7-4BB4-955E-2EC2E974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68DE-8A35-447E-A9D4-06E0614F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710F-FA7B-4E08-B13B-EFFB360E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CA30-3781-4D8F-BD20-786422E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B01-444B-412C-8A17-9DA90366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E64-345E-4338-A4E1-F4B5C614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1344-677F-4396-A985-33B2618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B069-93D6-4A9C-8E15-C521E21A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9FF9-33C7-42A5-9821-C632CDB7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0ED-3A1A-4029-8CE3-1E3408FE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96F31-3FFD-40ED-8226-27AED653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C9A37-86F1-41BC-86D4-A4C4FD8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EF110-BF81-430D-AD23-D91C6952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A22E1-5C90-4F7B-A451-E1B8175B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1761E-B9E1-426E-A768-B1D105FB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314-41C0-40AF-87C4-80E328DF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F9BA1-B304-42A0-83A8-198AE462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37E26-CAC6-4368-B4B1-B7287BE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C1E44-EFD6-4C90-A5F5-F0168A8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4FCE9-BCF8-455E-B5DA-EE6568D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7D385-2915-47A1-B4AD-698F69E8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8071D-1EBB-4DE4-9239-9873B11B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91EC2-BC33-4A51-B2D1-E22583E1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CC19-F347-4DDF-8F7B-3C6D964A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5F90-25BE-40E7-BABB-C7FCF750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78A2-F2B4-48AF-87CC-A3E6AAC1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CCF-9485-4CBA-9275-E19C6BE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5F70-2C7F-4D00-B9D1-B5B4CA89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C772-6854-44B8-A1C4-27005BD5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8196-A0C7-47C7-A4D5-2FCADAC3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24B2-3EBF-43FE-8C66-09A19546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1A49-BC26-4BE1-8772-FC93A02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806C2-E5BD-416B-9385-689E485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C3ED-C7D4-4A3F-B1E7-FD6611AB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C606-0A1D-42B2-8347-E0C55888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D325-950F-42CE-9DE9-B6201AED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95E4E-6C0E-46A9-8409-B3106FC0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B48-5CE2-40C4-B8A2-E4760AD9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5BCCD-E44C-4295-ACCF-E2079DA9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550A6-9EAA-415F-ADF8-A6FBD45F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4DCDE-E869-49D5-8015-77461BF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F5486-80FF-49E0-AF4B-2613749E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6053E-3691-4835-B0F7-1AB168DD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F0E11-6FA3-4059-B607-B93ED42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A148C-B79C-4FAD-8771-EF09A85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CEBC7-BF8B-4463-B23E-FE9DDE5B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0F904-4C51-425A-9A52-53D474A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F62B5-491C-4987-B6B2-A82BAE36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EF5-F8B2-4D30-A7E9-3736303D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E954B-76EF-4E27-8812-C46F3A73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7ADCB-2CE9-468B-B90B-42EDEC89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EC239-AEA4-4F73-A3A1-A96542C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AC17E-D2E2-4629-BEC2-ED234FC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9A1AA-6985-4749-870C-2DD8BA2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4FBCF-6F05-49E6-82F3-5A2E2FF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08611-D286-48DF-8596-37521A12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09BE7-38B4-40E4-9CFE-B121D96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3860D-B176-4427-8625-2DBC6AD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B9455-721B-453C-8302-1AD7A4FE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A82-E103-4EE5-87B6-99E445E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4C502-016F-4F6D-A03F-70602CED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AEC82-AA38-47E1-B26D-25DF81F6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454F9-8651-4389-98DE-0644A202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2224C-2D19-455E-A26E-CAC009BF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62164-5692-4902-8E71-F7EDB94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D9F14-082A-46F7-8D13-45A9F6E6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E04AE-9D97-4F52-B408-3976202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54FB9-94B9-4930-8A39-38AEF79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3D093-BEC4-489E-A0D5-A0B8EF6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DEC12-20CE-485A-9765-A8EAA1D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FBE-1EBE-4061-9245-C0E19C5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5BC47-1E3B-47D3-9BD8-741FAA3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3AB7D-B45F-4F31-8C99-852719F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E68DE-9047-4FDB-8820-96E7225C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65599-D000-491E-9090-E44FB867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FCFFC-B54A-494E-933E-9DB17693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A6A-AC1F-4C3B-9CEC-1612E4B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79BB-DE09-4293-B7E9-D5F1FE4A78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0A05-2C49-422F-BBF7-296FBFB887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933D-4396-4216-873C-C6797EE991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AD20-FC84-42C2-B9B8-1A6F17F967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DA63-9DA9-4503-9C90-CCA0ED18B6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DB8-4FFD-4873-B4C6-F6E890EA5C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0B16-63BB-49A2-93E7-79E6C28979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90080" y="-360"/>
            <a:ext cx="617220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ВЕЛИКИ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82-1725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3276720" y="216000"/>
            <a:ext cx="475452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324000" y="19692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ью сторону вы приняли бы в этой дискуссии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-171360"/>
          <a:ext cx="9137520" cy="8558280"/>
        </p:xfrm>
        <a:graphic>
          <a:graphicData uri="http://schemas.openxmlformats.org/drawingml/2006/table">
            <a:tbl>
              <a:tblPr/>
              <a:tblGrid>
                <a:gridCol w="4568760"/>
                <a:gridCol w="4568760"/>
              </a:tblGrid>
              <a:tr h="855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Сторон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нынешняя Россия, то есть Россия европейская, дипломатическая, политическая, военная, Россия коммерческая, мануфактурная, Россия школьная есть произведение Петра Великого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М.Н. Погоди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Кри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при Петре началось то зло, которое есть зло и нашего времени… Из могучей земли, могучей более всего верою и внутреннею жизнью,… Петр захотел образовать могущество и славу земную, захотел, следовательно, оторвать Русь от родных источников ее жизни, захотел втолкнуть Россию на путь Запада, путь ложный и опасный. Петр подчинил Россию влиянию Запада…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К.С. Аксак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971640" y="333360"/>
            <a:ext cx="7345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реформ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циально-экономическое, политическое и культурное отставание России от стран Западной Европ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лабление международного положения России. Угроза потери независим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-541440" y="333360"/>
            <a:ext cx="1000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удо России» или «Чудовище»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24000" y="17733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 О П С – формул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позиция «Мы считаем, что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обоснование «Потому, что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имер «Например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следствие «Поэтому…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324000" y="364500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И. Герцен о Петр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 гений и палач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s://ds04.infourok.ru/uploads/ex/1258/0000ae97-311a1dfd/1/hello_html_m478ddb4e.pn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3370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"/>
          <p:cNvSpPr/>
          <p:nvPr/>
        </p:nvSpPr>
        <p:spPr>
          <a:xfrm>
            <a:off x="971640" y="119160"/>
            <a:ext cx="7056360" cy="4597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ВОРЦОВЫЕ ПЕРЕВОРО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s://cs3.livemaster.ru/zhurnalfoto/3/d/7/131218215807.jpg"/>
          <p:cNvPicPr/>
          <p:nvPr/>
        </p:nvPicPr>
        <p:blipFill>
          <a:blip r:embed="rId1"/>
          <a:stretch/>
        </p:blipFill>
        <p:spPr>
          <a:xfrm>
            <a:off x="3340080" y="6480"/>
            <a:ext cx="5438880" cy="68752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"/>
          <p:cNvSpPr/>
          <p:nvPr/>
        </p:nvSpPr>
        <p:spPr>
          <a:xfrm>
            <a:off x="395280" y="1413000"/>
            <a:ext cx="317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Екатерина 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Велика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(1762 - 1796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5:33:57Z</dcterms:created>
  <dc:creator>ксош№1</dc:creator>
  <dc:description/>
  <dc:language>en-US</dc:language>
  <cp:lastModifiedBy>Irina</cp:lastModifiedBy>
  <dcterms:modified xsi:type="dcterms:W3CDTF">2017-01-23T03:37:37Z</dcterms:modified>
  <cp:revision>137</cp:revision>
  <dc:subject/>
  <dc:title>Свобода и ответственность.</dc:title>
</cp:coreProperties>
</file>